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Cheering.wav" ContentType="audio/x-wav"/>
  <Override PartName="/ppt/media/image25.jpeg" ContentType="image/jpeg"/>
  <Override PartName="/ppt/media/image24.jpeg" ContentType="image/jpeg"/>
  <Override PartName="/ppt/media/image10.png" ContentType="image/png"/>
  <Override PartName="/ppt/media/image23.jpeg" ContentType="image/jpeg"/>
  <Override PartName="/ppt/media/image21.wmf" ContentType="image/x-wmf"/>
  <Override PartName="/ppt/media/image18.jpeg" ContentType="image/jpeg"/>
  <Override PartName="/ppt/media/taps%5B1%5D.wav" ContentType="audio/x-wav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416-46B5-4085-8044-3355C5B1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369-E967-4186-8DB9-87DCBD16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131-7EC5-42D0-8C99-AB04E956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894-A9A4-4086-8C3C-FDDFEDDB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784-0B6D-4ECD-97C1-49725370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30F-C0E0-47F6-9C16-5CF2B27F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819-0DD4-47EB-9DF5-DAFBB2CA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D4F-B0AC-468F-B348-F78612BF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F73-AA3B-495A-A034-3504BFAF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8FD-6EA3-4971-8FC5-6CD46319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B20-9017-4675-9898-C704B16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09C-E202-4B4F-92BF-20C81FA6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625F-24D2-4DD2-83E8-B739721BB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Cheering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taps%5B1%5D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600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Labor Issues vs. Patrio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828800"/>
            <a:ext cx="7239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st-war labor unre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95560" indent="-56520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SzPct val="115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oal Miners Strike of 1919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95560" indent="-56520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SzPct val="115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teel Strike of 1919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95560" indent="-56520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SzPct val="115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oston Police Strike of 191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3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75960"/>
            <a:ext cx="7010280" cy="1476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The Red Cross - Greates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Mother in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1600200"/>
            <a:ext cx="3301920" cy="495288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Americans in the Tren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3224" t="2933" r="4299" b="4618"/>
          <a:stretch/>
        </p:blipFill>
        <p:spPr>
          <a:xfrm>
            <a:off x="1676520" y="1066680"/>
            <a:ext cx="7086600" cy="51912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erican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ow to build up, slow to en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August 1918, ten thousand American soldiers arriv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teau-Thierry / Second Battle of the Marne– stop German advance (last eff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use-Argonne Offensive 9/18 – 11/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ive allied assault on German lines (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2 million Americans engaged (10% casual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152280"/>
            <a:ext cx="7620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erman Cartoon:</a:t>
            </a:r>
            <a:br>
              <a:rPr sz="3600"/>
            </a:b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“Fit for active service!”, 19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76680" y="1523880"/>
            <a:ext cx="4690800" cy="50292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20"/>
            <a:ext cx="7620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1918 Flu Pandemic: </a:t>
            </a:r>
            <a:br>
              <a:rPr sz="3600"/>
            </a:b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epletes All Arm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16000" y="3276720"/>
            <a:ext cx="2970360" cy="21794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2209680" cy="22100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8880" y="1523880"/>
            <a:ext cx="1730520" cy="243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410080" y="4138560"/>
            <a:ext cx="3353040" cy="24145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447920" y="1409760"/>
            <a:ext cx="3174840" cy="19429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447920" y="5638680"/>
            <a:ext cx="3886200" cy="947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dace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50,000,000 – 100,000,000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son Fights for 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rly 1918 German military takes over the Germa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 Kaiser began peace negot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 army/navy mu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y surrenders 11/11/1918 @ 11:00 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t allied offensive 9:00 a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t deaths @ 10:59 a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lson travels to Paris for negot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publicans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30492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11 a.m., November 11, 19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1344400">
            <a:off x="1371600" y="1218960"/>
            <a:ext cx="4132440" cy="4190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778360" y="2133720"/>
            <a:ext cx="3060720" cy="42670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ee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reaty of Versailles / League of Nations Pages 736-7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1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een Points vs.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mestic Disp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blic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nat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ection of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eaty of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ain and France wanted harsh conditions to insure Germany would not be a threat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y accepts blame for th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y has to pay 132 billion in rep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ace-Lorraine returned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military drastically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nies become protectorates of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ne new nations created – Czechoslovakia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ngary, Romania, Serbia, Poland, Lithuania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onia, Latvia, and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es of the Tre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miliates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gnores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e peace with Germany 19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ssian Rev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ssigns colonies – not self-determination or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7010280" cy="1478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Eurostile"/>
              </a:rPr>
              <a:t>Opportunities for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Eurostile"/>
              </a:rPr>
              <a:t>African-Americans in WW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2362320"/>
            <a:ext cx="67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Great Migration.”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  1916 – 1919 </a:t>
            </a:r>
            <a:r>
              <a:rPr b="1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70,000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War industries work.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nlistment in segregated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uni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152280"/>
            <a:ext cx="7925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0000"/>
                </a:solidFill>
                <a:latin typeface="Comic Sans MS"/>
              </a:rPr>
              <a:t>The Versailles Trea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6019920" cy="55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estic / Polit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olati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rayal / mistreatment of immigrant home land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nry Cabot Lo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d opposition of “moral” p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ccessfully delayed treaty h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lson – in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 kills the trea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equences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– 10 million dead, 25 million inj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onomic - $330 billion, destruction of European econo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destruction of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tical – End of German, Austrian, Russian, and Ottoman Em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ion of weak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ment of comm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ychological – deepens and expands nationalism, expands pessimistic view of hum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 Consequences of W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,000 dead – 300,000 inj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s America’s emergence as world’s greatest industrial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ocates American population to urba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anti-immigrant and anti-radical senti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0,000,000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2985" t="5173" r="4478" b="4257"/>
          <a:stretch/>
        </p:blipFill>
        <p:spPr>
          <a:xfrm>
            <a:off x="1600200" y="990720"/>
            <a:ext cx="7232760" cy="55623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30492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World War I Casua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71600" y="1281240"/>
            <a:ext cx="73915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ion of 1920 Candi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1755720" cy="23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4114800"/>
            <a:ext cx="1673280" cy="214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3000" y="1870200"/>
            <a:ext cx="13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rren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l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l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257800" y="1447920"/>
            <a:ext cx="160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181480" y="4114800"/>
            <a:ext cx="1828800" cy="21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26360" y="1870200"/>
            <a:ext cx="1744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mocr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mes M. C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stant N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nklin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ion of 19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56920" cy="4655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5985000"/>
            <a:ext cx="80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bs gets 20k more votes than 1912 but half of the %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12 – 6% of Popular Vote    1920 – 3% of Popular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ased Racial 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rican-Americans used as strike br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Migration expands urba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crow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onomic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ce riots / lynching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triotism and opportunity lead to female factory workers and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lson endorses (finally) suffrage as a “vital necessity” for the war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nomic, social, and political streng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76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YWCA – The Blue Tri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87600" y="1219320"/>
            <a:ext cx="4003920" cy="52927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Munitions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59320" y="1176480"/>
            <a:ext cx="3527280" cy="530064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7010280" cy="1371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Eurostile"/>
              </a:rPr>
              <a:t>The Girls They Left Behind Do Their Bit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5867280" cy="492948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7315200" cy="8078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Women Used In Recrui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35280" y="990720"/>
            <a:ext cx="329904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629400" cy="1295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Even Grandma Buys Liberty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Eurostile"/>
              </a:rPr>
              <a:t>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267080" y="1143000"/>
            <a:ext cx="3632400" cy="532764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51:14Z</dcterms:created>
  <dc:creator> </dc:creator>
  <dc:description/>
  <dc:language>en-US</dc:language>
  <cp:lastModifiedBy>School District U46</cp:lastModifiedBy>
  <dcterms:modified xsi:type="dcterms:W3CDTF">2008-03-05T15:03:20Z</dcterms:modified>
  <cp:revision>39</cp:revision>
  <dc:subject/>
  <dc:title>Slide 1</dc:title>
</cp:coreProperties>
</file>